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B5B-A41D-41B4-85BA-F6FD330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519-FB5E-4553-8B26-5AC253B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D51-0618-470E-B030-833E3005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55B-EEE2-4B34-BC7E-0C5B3017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344-3BD9-4634-AE47-4354886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4AF-37D3-4385-8EE1-546EBD1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DB9-5749-47A1-BD4E-06D0F25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C1-E740-4E9C-A818-E9CAA33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991-BBD7-4CF9-B905-D390C9D9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BE8-F8C0-4495-A184-7674BBC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D16-E3A3-4308-9F13-4F26A13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158-4CDE-4AE4-B8C7-EA37286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A73-9D54-47AE-9DDA-A426EBB0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The System of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stitute the value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one of the original equation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)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406520"/>
            <a:ext cx="7696080" cy="4298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)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- 4/7 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17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02920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lution of the System is an Ordered Pai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741320"/>
            <a:ext cx="7696080" cy="4298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17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-2/7, 17/7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One Equation in Terms of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itute the solved equation into the other eq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3)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itute the solved equation into the other eq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(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+3)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2(2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3)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4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tribute th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bine Like-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6 =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= -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tract 6 from both sid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 New Equatio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= -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=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vide both sides by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stitute the value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one of the original equation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7696080" cy="377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502920" bIns="50292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 -2/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005440"/>
            <a:ext cx="8229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312408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25:30Z</dcterms:created>
  <dc:creator>claguna</dc:creator>
  <dc:description/>
  <dc:language>en-US</dc:language>
  <cp:lastModifiedBy>claguna</cp:lastModifiedBy>
  <dcterms:modified xsi:type="dcterms:W3CDTF">2008-02-16T21:37:20Z</dcterms:modified>
  <cp:revision>3</cp:revision>
  <dc:subject/>
  <dc:title>Solve The System of Equations</dc:title>
</cp:coreProperties>
</file>